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C47-C4F4-4683-9A6E-7C283136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AF2-4FFF-424F-B763-52EDBEBD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ECF-B325-4DB8-B4B1-8BA5643A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2856-5B82-4683-96E9-1CCA28D0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81D-997E-41F7-8A58-9F251E5B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FCF-D805-4587-82BA-998A49EC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5FB-F46D-457B-88C9-15D745B0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57E-4E06-40C1-A7DC-07F0637D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ECE-5066-480C-BCFD-A5238D34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72B-B561-49F3-B73F-46ECABC4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3CE-6F68-43A8-8A21-40B4F8A9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44F-788E-4CFC-821F-207E7FD7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BB1B-E118-4BF5-99EB-55086EC06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981080"/>
          <a:ext cx="8077320" cy="44960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22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3" name="Picture 2" descr="C:\Users\dwilliams2\AppData\Local\Microsoft\Windows\Temporary Internet Files\Content.IE5\P0DV8HYK\MC900354298[2].wmf"/>
          <p:cNvPicPr/>
          <p:nvPr/>
        </p:nvPicPr>
        <p:blipFill>
          <a:blip r:embed="rId1"/>
          <a:stretch/>
        </p:blipFill>
        <p:spPr>
          <a:xfrm>
            <a:off x="4651200" y="5334120"/>
            <a:ext cx="1266840" cy="129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dwilliams2\AppData\Local\Microsoft\Windows\Temporary Internet Files\Content.IE5\P0DV8HYK\MC900354098[1].wmf"/>
          <p:cNvPicPr/>
          <p:nvPr/>
        </p:nvPicPr>
        <p:blipFill>
          <a:blip r:embed="rId2"/>
          <a:stretch/>
        </p:blipFill>
        <p:spPr>
          <a:xfrm>
            <a:off x="2932200" y="5580000"/>
            <a:ext cx="1208160" cy="1443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dwilliams2\AppData\Local\Microsoft\Windows\Temporary Internet Files\Content.IE5\JT9G065V\MC900436248[1].png"/>
          <p:cNvPicPr/>
          <p:nvPr/>
        </p:nvPicPr>
        <p:blipFill>
          <a:blip r:embed="rId3"/>
          <a:stretch/>
        </p:blipFill>
        <p:spPr>
          <a:xfrm>
            <a:off x="5486400" y="5925960"/>
            <a:ext cx="1276200" cy="750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dwilliams2\AppData\Local\Microsoft\Windows\Temporary Internet Files\Content.IE5\3EO20UPZ\MC900022956[1].wmf"/>
          <p:cNvPicPr/>
          <p:nvPr/>
        </p:nvPicPr>
        <p:blipFill>
          <a:blip r:embed="rId4"/>
          <a:stretch/>
        </p:blipFill>
        <p:spPr>
          <a:xfrm>
            <a:off x="3800520" y="5745240"/>
            <a:ext cx="880920" cy="1112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dwilliams2\AppData\Local\Microsoft\Windows\Temporary Internet Files\Content.IE5\P0DV8HYK\MC900028383[1].wmf"/>
          <p:cNvPicPr/>
          <p:nvPr/>
        </p:nvPicPr>
        <p:blipFill>
          <a:blip r:embed="rId5"/>
          <a:stretch/>
        </p:blipFill>
        <p:spPr>
          <a:xfrm>
            <a:off x="2317680" y="5710320"/>
            <a:ext cx="1176480" cy="896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Users\dwilliams2\AppData\Local\Microsoft\Windows\Temporary Internet Files\Content.IE5\JT9G065V\MP900408893[1].jpg"/>
          <p:cNvPicPr/>
          <p:nvPr/>
        </p:nvPicPr>
        <p:blipFill>
          <a:blip r:embed="rId6"/>
          <a:stretch/>
        </p:blipFill>
        <p:spPr>
          <a:xfrm>
            <a:off x="1973160" y="5045040"/>
            <a:ext cx="8463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5:41:53Z</dcterms:created>
  <dc:creator>Deborah Williams</dc:creator>
  <dc:description/>
  <dc:language>en-US</dc:language>
  <cp:lastModifiedBy>Deborah Williams</cp:lastModifiedBy>
  <dcterms:modified xsi:type="dcterms:W3CDTF">2013-01-17T18:43:57Z</dcterms:modified>
  <cp:revision>2</cp:revision>
  <dc:subject/>
  <dc:title>PowerPoint Presentation</dc:title>
</cp:coreProperties>
</file>